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2DE93-05C8-4EAB-B6B2-B343F748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B38B-ED0D-4308-9ADA-93C401F5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AC642-4D22-404C-9631-9DE65EC6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C945-0B31-44C6-8CA4-1DD82FF9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691F-C770-4D7A-AC2E-EACD836A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0B6F-EFA4-43DA-8C4C-39A49C23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5126-FED3-4D7D-B2B9-FCBB3C46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1CDD-F572-458B-A70B-12EBBCC3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954E-7174-453F-8C0B-C95400B3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7760-2701-4156-83D3-8B755F87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F1C7-B739-4BD5-903A-72830A75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5ECAD-6CB6-4D22-B116-9987C44F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2B54-99DB-4D69-82A3-B97F7190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1BF3-2D4C-4BD4-B2CB-1E1C8FF1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4473-B87E-4CB2-A03B-2450FBE0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4BF3-0F51-4979-A68F-DA5EB661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C475-DD7C-48BD-9137-B3496AB7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E5EBA-452E-42CC-AFDF-77CAC062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55BED-D557-4D66-BBCE-6DC9A6A6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C63D8-17D8-47D9-B779-8DED25D4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E61B0-3140-450D-AF60-1443AE84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F768-F43B-42C2-AAF8-124339F2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8AD9-DB2A-412B-8845-25106DC2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136D2-3BDC-418E-B65B-0B77EB94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3F7F-A252-4A48-A7AF-F80296BD2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F047-AF68-4FA0-9A49-38BDD9E2BB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the 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Vigen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re than 300 years cryptanalysts worked on the problem of breaking a polyalphabetic cipher (like the V-ciph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63, a Polish Infantry officer, Friedrich W. Kasiski, published a short book (95 pages) which changed the nature of cryp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found a simple solution to the polyalphabet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ed in 1881 without realizing that he had started a revolution in cryptograph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3B7D8-246E-48B6-BBF5-0CF4EF7927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t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iski’s breakthrough was the observation th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1080" y="5610240"/>
            <a:ext cx="70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o, the size of the keyword can be determined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ature of repeated ciphertext character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400040" y="3324240"/>
            <a:ext cx="6573600" cy="1644480"/>
            <a:chOff x="1400040" y="3324240"/>
            <a:chExt cx="6573600" cy="1644480"/>
          </a:xfrm>
        </p:grpSpPr>
        <p:sp>
          <p:nvSpPr>
            <p:cNvPr id="119" name=""/>
            <p:cNvSpPr/>
            <p:nvPr/>
          </p:nvSpPr>
          <p:spPr>
            <a:xfrm>
              <a:off x="1400040" y="3324240"/>
              <a:ext cx="6573600" cy="164448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10360" y="3512880"/>
              <a:ext cx="5896440" cy="1186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conjuction of a repeated portion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key with a repetition in the 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duces a repetition in the ciphertex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C5D8D-084D-4423-8DE1-4939DD5A50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679040"/>
            <a:ext cx="8229600" cy="15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ven the keyword RUN and some plaintex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78040" y="3143160"/>
            <a:ext cx="7588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urier New"/>
              </a:rPr>
              <a:t>R U N R U N R U N R U N R U N R U N R U N R U N R U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 o b e o r n o t t o b e t h a t i s t h e q u e 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Courier New"/>
              </a:rPr>
              <a:t>K I O V I E E I G K I O V N U R N V J N U V K H V M 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71640" y="3998880"/>
            <a:ext cx="3399840" cy="0"/>
            <a:chOff x="971640" y="3998880"/>
            <a:chExt cx="3399840" cy="0"/>
          </a:xfrm>
        </p:grpSpPr>
        <p:sp>
          <p:nvSpPr>
            <p:cNvPr id="127" name=""/>
            <p:cNvSpPr/>
            <p:nvPr/>
          </p:nvSpPr>
          <p:spPr>
            <a:xfrm>
              <a:off x="97164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3836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88880" y="463716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Find repeated 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28880" y="4016520"/>
            <a:ext cx="2485800" cy="305640"/>
            <a:chOff x="1028880" y="4016520"/>
            <a:chExt cx="2485800" cy="305640"/>
          </a:xfrm>
        </p:grpSpPr>
        <p:sp>
          <p:nvSpPr>
            <p:cNvPr id="131" name=""/>
            <p:cNvSpPr/>
            <p:nvPr/>
          </p:nvSpPr>
          <p:spPr>
            <a:xfrm flipV="1">
              <a:off x="10288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146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840" y="4227480"/>
              <a:ext cx="2323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7480" y="401652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9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87440" y="497988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Count the number of characters between the repet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52920" y="3968640"/>
            <a:ext cx="1990440" cy="287280"/>
            <a:chOff x="4552920" y="3968640"/>
            <a:chExt cx="1990440" cy="287280"/>
          </a:xfrm>
        </p:grpSpPr>
        <p:sp>
          <p:nvSpPr>
            <p:cNvPr id="137" name=""/>
            <p:cNvSpPr/>
            <p:nvPr/>
          </p:nvSpPr>
          <p:spPr>
            <a:xfrm>
              <a:off x="4552920" y="398916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81560" y="397044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581360" y="4037040"/>
              <a:ext cx="0" cy="218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248160" y="4007880"/>
              <a:ext cx="0" cy="219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7680" y="4179960"/>
              <a:ext cx="1542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1000" y="396864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6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041480" y="543564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TE:  each time the key RUNR engages the rep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laintext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to be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 the repeated ciphertext KIOV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B38D2-2AB5-4635-8405-923A9E866B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2000" y="1657440"/>
            <a:ext cx="7272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perform this test automatically – select Kasiski Method under the polyalphabetic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22200" y="2446200"/>
            <a:ext cx="1036800" cy="422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352600" y="2459160"/>
            <a:ext cx="6640560" cy="42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AF34C-5CEA-472A-8AEE-9254B0C128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76772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keyword size is known it is possible to discover the key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opies of the target ciphertext in columns where each column is shifted by one position in th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26440" y="4564080"/>
            <a:ext cx="70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low frequency letters (j,k,q,x,z) should have a combined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about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26080" y="540216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column in which these letters appear more frequently is 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27880" y="5931000"/>
            <a:ext cx="68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olumn with the correct frequency is a candidate for the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CE368-DC93-4B83-B8E7-86B0AA1BD2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1360" y="1604880"/>
            <a:ext cx="7155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provides a low frequency analysis t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74760" y="2262240"/>
            <a:ext cx="1049400" cy="4278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728800" y="2262240"/>
            <a:ext cx="5985000" cy="419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70080" y="3527280"/>
            <a:ext cx="1074600" cy="398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7052D-7F70-4C11-88E6-3B54494A84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2T02:16:52Z</dcterms:modified>
  <cp:revision>58</cp:revision>
  <dc:subject/>
  <dc:title>CAP Cryptographic Analysis Program</dc:title>
</cp:coreProperties>
</file>